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26B8A-F159-450E-BCFC-A40DF6474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55EE7-CACE-4345-97A7-714AC67D9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B6E75-DCB9-4854-9609-AE7D82518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D7EAF-BFDC-41B1-B9B5-936120FD9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008AC-DA4C-4D90-824C-F382936B0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AFA8E-F540-461D-B0B6-726B6AAD4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6BD54-6BA1-4E46-A20D-F5E81E750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C1CB6-0923-450F-BBE4-B72B47007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2073A-779E-4DC5-A8D0-792FED548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070B6-2BE0-4318-AC23-2223F5F32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3E7EC-3520-4F27-BE36-EBB016519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B051D-88A8-47F4-BDA3-1E8D4639F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99054-64D3-4A6E-851F-AE7D8D181E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31T15:47:45Z</dcterms:created>
  <dc:creator>ricardo.scantamburlo</dc:creator>
  <dc:description/>
  <dc:language>en-US</dc:language>
  <cp:lastModifiedBy>ricardo.scantamburlo</cp:lastModifiedBy>
  <dcterms:modified xsi:type="dcterms:W3CDTF">2005-01-31T15:50:24Z</dcterms:modified>
  <cp:revision>5</cp:revision>
  <dc:subject/>
  <dc:title>Slide 1</dc:title>
</cp:coreProperties>
</file>